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509-561C-4DE1-82DB-8367C58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F94-C618-430D-BCF9-7A4E682B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359-8106-4AF3-9BE8-B3CA6AE3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D80-3237-4B54-963A-DC370351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354-8E7C-4411-BBC5-2E2F6A14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16B-3253-4A87-A91F-B2675FAC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8C5-E500-45EE-A605-0C9EB989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BF6-A5B4-4434-AE86-F9976954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804-A964-4191-A5D2-6C1D06D0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38B-BE5F-4E24-9D94-29089A6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CAE-2D0C-4F9D-B71E-5991B8B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386-259B-4227-BFF2-5D42D0F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7EB-34D5-4E5D-BF7D-8BE85802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out and read word fo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– you say exactly what you mean to and you won’t forget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– you don’t have good eye contact and it’s not always a natural way of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out and mem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mpor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d and practiced but not written out word fo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mp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the cuff” and without any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main purposes of a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su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types of informative spee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– gives information about an object, place, person, event, or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– shows how something works, how to do something, or how something was done or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choosing a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opic that interest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you can find sufficient material on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your topic is appropriate to your audience and occ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you have enough time to research your topic and that it can be covered in the time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1:30:50Z</dcterms:created>
  <dc:creator>username</dc:creator>
  <dc:description/>
  <dc:language>en-US</dc:language>
  <cp:lastModifiedBy>username</cp:lastModifiedBy>
  <dcterms:modified xsi:type="dcterms:W3CDTF">2009-09-29T17:47:46Z</dcterms:modified>
  <cp:revision>2</cp:revision>
  <dc:subject/>
  <dc:title>Types of Speeches</dc:title>
</cp:coreProperties>
</file>